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0456-8818-427D-ADB0-C99E1C001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2006-297C-4D6C-8629-BF7225605B97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437-2823-4A41-83DD-0BF05718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F5D-C3B7-4F90-81A7-2C8F262D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6AFD8-2A0A-452B-B3E4-8645E970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9477E-FBEA-4183-AB92-BC69E19A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66D03-AD4F-4B73-B222-A40FB033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88094-BEF8-417D-BDA0-50789DF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34272-7AB8-40C9-AAB4-915E010B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5B7FF-D5E6-4338-9F0D-9423C354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CFE2A-AA30-4D74-A3D7-9AFCDC78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6F05B-7905-412E-9EF9-F18F3D82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98690-5B2F-4826-8C05-ADB71882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C282E-231D-4545-9F13-54DE9746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84D-60EC-43EA-8CD3-9D109627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418DD-BCCD-4D20-82F8-F0C86CA2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1512F-14FF-40BB-91D3-5AC82654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0EBA6-E685-45DD-B084-93E58F78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207D8-F894-4600-8EF0-9E9F00EF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356D3-567B-4F74-9000-DAD0BA03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8B9F9-B94E-4375-8058-6A57F92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43811-4969-4E8A-801B-112F65C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72818-D110-402F-8D6D-98C1F47E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735AB-7B1D-4D55-879A-A8B491DB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134D4-C959-46E6-BA39-A896BDEC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F4E-BE6A-41ED-9F0B-BB86D52A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66A85-CE28-4BD0-96E5-C38E27AE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1E5B-160E-43F6-B381-F4E26563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2C18-864D-4292-9A4F-EE326798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BBD9-7F46-4E33-8EBB-CD90AEF6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AC37-8093-4174-A0B1-0AB132A0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34E4-67AA-4270-A71A-589858BD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CE77-129D-4699-A348-6FC75B90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D16C-76F2-4DBE-863E-45CB2D8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FC2-822A-4752-9861-52C9FF65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D61A-17E9-4C44-A9DB-F6D7FBD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1E38-CE2A-40DA-8134-DEA66114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AE2E-C19A-4D89-8AE8-516171D0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5284-5656-42AB-B43C-91D63499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A8E8-1535-49FE-8A5F-0BD99CEC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DE238-262C-46F3-B012-98162EEF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929B-3BE0-4ABA-9E64-8735390C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9824-9722-4AD0-A4AD-C618A0A6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6F3D-46CC-45BD-8E65-B721CFDF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00560-4567-42D7-95A3-1A1E6FAE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97C-7B50-4110-A576-47478888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E7E6-F292-4D81-8994-C25D049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92CA-5032-45B3-8C92-59AEB9E9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6104-A2D3-44E3-89D6-EEBE31F5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E769-88FC-4230-BE57-EBA22570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42BD-EC2E-4A19-A603-14F77B9C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03A5-FAC5-4D82-97F1-CE51AD15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122A-C63F-4C7D-9D78-D73B79D1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44BA-6FEB-466D-A87C-06B78F2C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131F-EA97-469F-8E4D-C5FD96AB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69385-8883-4611-866C-A9C5138D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948-3722-437C-9356-5B77947C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4CE9-48ED-48F3-9243-69CABAF4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E05D-EBD9-4392-9C67-20598170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36E6-7C20-42DB-96A4-6C82567B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D624-4509-4AAD-8B12-D65F8A3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F82A-187F-4928-8157-FF66EA3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D7DD8-E43B-4FE3-AE15-136CA2F0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42B3C-1867-455E-B589-CA33A7D8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B47A9-7B1C-4733-B411-EFC5CFD7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A7BE-43FB-4C7F-8B8A-DB201557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08EEC-042F-4BEC-AD55-76734649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42C-6A10-44F8-A6AA-AD022D4A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7B1EB-7AB6-48DF-BEFE-40925B8A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8EF7B-8531-42DC-8972-A63E4A6C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86319-1FB3-4132-B07F-589591DF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3621A-D685-49F4-A7B4-C543748D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4E850-BBFF-4F97-B5DD-F8E66661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54D64-6323-4B00-BAAF-751238B6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9809-A8F3-4E39-801D-281BC05F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06F1-6C8A-4926-9480-01AF528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724A2-71DF-4F49-9823-E0566A47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9B60-4F51-4D06-8B8F-D36E7E57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712-F3EE-4088-A7B3-255C9F81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84CE-BF6A-42B9-83BC-C80CB436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E93A9-40F6-4E18-968A-D2F8EB7F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7C9D1-8158-4869-965A-B7F47279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C9C72-C991-453F-888C-4AB5B557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3A662-1CF5-4392-AEE9-9DC8B8ED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A3370-A812-47B0-8EC6-4962E88C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657D-3A52-43EB-8DF2-323CB37D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7AF0-A496-4D94-B316-16306048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74BF3-6C9F-4600-85A6-89791E18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166E-19A8-458E-87FA-E2D735B4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261-CC71-4472-BF65-1560E98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AFED1-EA65-492A-950F-C31F290A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C5525-A338-4A45-AD44-A0388900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D97DD-A356-4669-9C74-9FFDAE1E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C1913-7E45-4E11-AB8F-AA279389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D10B7-81FC-4B08-B9A4-F607028D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4E495-3749-4AFC-9221-616425F8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C769A-4AA4-4A16-8CDE-0A3DD0AE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0B3A9-32D3-425D-A9E6-4F14F608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9F9EB-B41B-4F4F-9558-93F1F105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94BBB-D2FD-428D-B25B-47B2794B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94E-6665-480F-85D9-23C17C7D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E4779-BF5C-4807-9C07-43D456E2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A6873-FDB3-4C3B-B7BE-216A461A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1AB89-FA24-470A-98DA-CF76B6E5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1DD96-BDDF-4B12-B45D-DE6DFB84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22EED-4E9C-4CEE-B654-4D0286C2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8E480-86DC-417D-9D8F-B05FC935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576C7-8026-4C08-A8DE-3C4B6773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0DE12-1A00-470F-B83A-8D59A154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0E3B2-8A65-4C7B-BC53-ED81FE21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E3CB9-99DA-4D68-B79E-9A61DA5C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A0B-CBF7-403A-A232-4CEE15E6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023BA-403C-42B5-B917-1B35C2E1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05BFB-7C28-433F-A1BD-49503A83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095B1-DA74-42B8-978F-AD089D5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9D259-6927-42D6-983D-DB9EE518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15073-975E-4C95-BF47-68FB6C20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B4573-F540-45F6-B010-BE0D7C5E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A566F-9443-44CB-8D94-C49ED0BD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A5314-C6F7-41E9-A2B3-5734DC33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9440A-4DEF-47AA-AD92-4F84E3D9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22339-54A8-40F1-B978-FB5FEA6B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B349-44CA-44CE-9E67-FA57A26FCF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DBA9-33D7-4347-AC74-4CC4FB99FB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F4B2-35A6-4E97-A6F8-20347E8B7D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2E22-4C7F-4652-B3D4-DE82E3B9B1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2CAA-D919-47E9-B30F-A4A4C914A0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3370-8606-4FC1-A933-E77D05D82A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8CE1-6D7E-4879-891B-041DF73F46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3DEF-F0F5-4D07-8F2B-581DCC36FF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E517-9CF9-4D22-8334-1AB73E4437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B330-149A-4BB4-A699-9C3676B95E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SAaiYKF0cs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4.1 CLASSIFICATION OF MATTER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42" name="Picture 7" descr="chemistry11_index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Solution (homogeneous)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Two or more different partic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Evenly distribut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1 phase (</a:t>
            </a:r>
            <a:r>
              <a:rPr b="1" lang="en-CA" sz="2400" spc="-1" strike="noStrike">
                <a:solidFill>
                  <a:srgbClr val="292934"/>
                </a:solidFill>
                <a:latin typeface="Arial"/>
              </a:rPr>
              <a:t>homogeneous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an be separated by physical mea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In a homogeneous mixture you can </a:t>
            </a:r>
            <a:r>
              <a:rPr b="1" lang="en-CA" sz="2400" spc="-1" strike="noStrike" u="sng">
                <a:solidFill>
                  <a:srgbClr val="292934"/>
                </a:solidFill>
                <a:uFillTx/>
                <a:latin typeface="Arial"/>
              </a:rPr>
              <a:t>not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see different layers or pieces!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76" name="Picture 7" descr="_x001d_°"/>
          <p:cNvPicPr/>
          <p:nvPr/>
        </p:nvPicPr>
        <p:blipFill>
          <a:blip r:embed="rId1"/>
          <a:stretch/>
        </p:blipFill>
        <p:spPr>
          <a:xfrm>
            <a:off x="5869080" y="1600200"/>
            <a:ext cx="1596960" cy="2185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product_chem"/>
          <p:cNvPicPr/>
          <p:nvPr/>
        </p:nvPicPr>
        <p:blipFill>
          <a:blip r:embed="rId2"/>
          <a:stretch/>
        </p:blipFill>
        <p:spPr>
          <a:xfrm>
            <a:off x="5443560" y="4175280"/>
            <a:ext cx="2448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echanical mixture (heterogeneous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79" name="Picture 7" descr="_x001d_°"/>
          <p:cNvPicPr/>
          <p:nvPr/>
        </p:nvPicPr>
        <p:blipFill>
          <a:blip r:embed="rId1"/>
          <a:stretch/>
        </p:blipFill>
        <p:spPr>
          <a:xfrm>
            <a:off x="1541520" y="1600200"/>
            <a:ext cx="1869840" cy="2185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9" descr="liquiddensity"/>
          <p:cNvPicPr/>
          <p:nvPr/>
        </p:nvPicPr>
        <p:blipFill>
          <a:blip r:embed="rId2"/>
          <a:stretch/>
        </p:blipFill>
        <p:spPr>
          <a:xfrm>
            <a:off x="1666800" y="3938760"/>
            <a:ext cx="1619280" cy="21873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Two or more different partic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Unevenly distribut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More than1 phase (</a:t>
            </a:r>
            <a:r>
              <a:rPr b="1" lang="en-CA" sz="2400" spc="-1" strike="noStrike">
                <a:solidFill>
                  <a:srgbClr val="292934"/>
                </a:solidFill>
                <a:latin typeface="Arial"/>
              </a:rPr>
              <a:t>heterogeneous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an be separated by physical mea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In a heterogeneous mixture you can see different layers or pieces!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c2f1"/>
          <p:cNvPicPr/>
          <p:nvPr/>
        </p:nvPicPr>
        <p:blipFill>
          <a:blip r:embed="rId1"/>
          <a:stretch/>
        </p:blipFill>
        <p:spPr>
          <a:xfrm>
            <a:off x="1600200" y="609480"/>
            <a:ext cx="60199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Homework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34"/>
                </a:solidFill>
                <a:latin typeface="Arial"/>
              </a:rPr>
              <a:t>Due Oct 16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2533c"/>
                </a:solidFill>
                <a:latin typeface="Arial"/>
              </a:rPr>
              <a:t>Mat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371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tter has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mas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&amp; occupies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space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volume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ss is defined as the amount of matter in a substance or object (measured in grams (g), milligrams (mg), kilograms (kg)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an be a pure substance or a mixtu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45" name="Picture 5" descr="ts?t=11484344792958141506&amp;pid=23136&amp;ppid=10"/>
          <p:cNvPicPr/>
          <p:nvPr/>
        </p:nvPicPr>
        <p:blipFill>
          <a:blip r:embed="rId1"/>
          <a:stretch/>
        </p:blipFill>
        <p:spPr>
          <a:xfrm>
            <a:off x="6824520" y="2965320"/>
            <a:ext cx="2319480" cy="1685880"/>
          </a:xfrm>
          <a:prstGeom prst="rect">
            <a:avLst/>
          </a:prstGeom>
          <a:ln w="0">
            <a:noFill/>
          </a:ln>
        </p:spPr>
      </p:pic>
      <p:pic>
        <p:nvPicPr>
          <p:cNvPr id="446" name="Diagram 4" descr=""/>
          <p:cNvPicPr/>
          <p:nvPr/>
        </p:nvPicPr>
        <p:blipFill>
          <a:blip r:embed="rId2"/>
          <a:stretch/>
        </p:blipFill>
        <p:spPr>
          <a:xfrm>
            <a:off x="146160" y="2919240"/>
            <a:ext cx="7327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ll matter is composed of ATOM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toms are the smallest component of all pure material. Ex. Hydrogen is composed of hydrogen ATOM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lements are the purest material that cannot be further broken down. Ex. Water is composed of the elements oxygen and hydroge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49" name="Picture 5" descr="WaterCharged"/>
          <p:cNvPicPr/>
          <p:nvPr/>
        </p:nvPicPr>
        <p:blipFill>
          <a:blip r:embed="rId1"/>
          <a:stretch/>
        </p:blipFill>
        <p:spPr>
          <a:xfrm>
            <a:off x="6019920" y="3886200"/>
            <a:ext cx="2333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ure Substa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51" name="Picture 8" descr="separating-mixtures"/>
          <p:cNvPicPr/>
          <p:nvPr/>
        </p:nvPicPr>
        <p:blipFill>
          <a:blip r:embed="rId1"/>
          <a:srcRect l="0" t="13461" r="0" b="0"/>
          <a:stretch/>
        </p:blipFill>
        <p:spPr>
          <a:xfrm>
            <a:off x="100080" y="2286000"/>
            <a:ext cx="5268960" cy="3429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Have a fixed composition and cannot be separated by physical mea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lemen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One type of particle, ex. helium contains single He ato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Oxygen in air contains 2 oxygen bonded together, this is still a pure substance composed of one element, it is called a </a:t>
            </a:r>
            <a:r>
              <a:rPr b="0" lang="en-CA" sz="2400" spc="-1" strike="noStrike" u="sng">
                <a:solidFill>
                  <a:srgbClr val="292934"/>
                </a:solidFill>
                <a:uFillTx/>
                <a:latin typeface="Arial"/>
              </a:rPr>
              <a:t>molecule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55" name="Picture 5" descr="c2f1"/>
          <p:cNvPicPr/>
          <p:nvPr/>
        </p:nvPicPr>
        <p:blipFill>
          <a:blip r:embed="rId1"/>
          <a:srcRect l="0" t="0" r="55704" b="58239"/>
          <a:stretch/>
        </p:blipFill>
        <p:spPr>
          <a:xfrm>
            <a:off x="6400800" y="1701720"/>
            <a:ext cx="1981080" cy="1755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c2f1"/>
          <p:cNvPicPr/>
          <p:nvPr/>
        </p:nvPicPr>
        <p:blipFill>
          <a:blip r:embed="rId2"/>
          <a:srcRect l="58233" t="0" r="0" b="58239"/>
          <a:stretch/>
        </p:blipFill>
        <p:spPr>
          <a:xfrm>
            <a:off x="6248520" y="4648320"/>
            <a:ext cx="17524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lemen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annot be broken down into simpler substanc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eriodic table so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59" name="Picture 7" descr="table"/>
          <p:cNvPicPr/>
          <p:nvPr/>
        </p:nvPicPr>
        <p:blipFill>
          <a:blip r:embed="rId2"/>
          <a:stretch/>
        </p:blipFill>
        <p:spPr>
          <a:xfrm>
            <a:off x="4495680" y="826920"/>
            <a:ext cx="4572000" cy="2476800"/>
          </a:xfrm>
          <a:prstGeom prst="rect">
            <a:avLst/>
          </a:prstGeom>
          <a:ln w="0">
            <a:noFill/>
          </a:ln>
        </p:spPr>
      </p:pic>
      <p:sp>
        <p:nvSpPr>
          <p:cNvPr id="460" name="TextBox 2"/>
          <p:cNvSpPr/>
          <p:nvPr/>
        </p:nvSpPr>
        <p:spPr>
          <a:xfrm>
            <a:off x="304920" y="388620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y can be identified by their chemical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YMBOL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(as indicated on a periodic table)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040" indent="-176040"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You should know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first 20 symbol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nd….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Iron, nickel, copper, zinc, bromine, silver, tin, iodine, gold,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mercury, lea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mpound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62" name="Picture 7" descr="pure compound"/>
          <p:cNvPicPr/>
          <p:nvPr/>
        </p:nvPicPr>
        <p:blipFill>
          <a:blip r:embed="rId1"/>
          <a:stretch/>
        </p:blipFill>
        <p:spPr>
          <a:xfrm>
            <a:off x="878040" y="1905120"/>
            <a:ext cx="2798640" cy="3429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34"/>
                </a:solidFill>
                <a:latin typeface="Arial"/>
              </a:rPr>
              <a:t>Composed of two or more </a:t>
            </a:r>
            <a:r>
              <a:rPr b="1" lang="en-CA" sz="2800" spc="-1" strike="noStrike">
                <a:solidFill>
                  <a:srgbClr val="292934"/>
                </a:solidFill>
                <a:latin typeface="Arial"/>
              </a:rPr>
              <a:t>different types of atoms (water: made of oxygen and hydrogen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34"/>
                </a:solidFill>
                <a:latin typeface="Arial"/>
              </a:rPr>
              <a:t>Can only be broken down by chemical mea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4" name="Rectangle 1"/>
          <p:cNvSpPr/>
          <p:nvPr/>
        </p:nvSpPr>
        <p:spPr>
          <a:xfrm>
            <a:off x="2514600" y="4952880"/>
            <a:ext cx="762120" cy="381240"/>
          </a:xfrm>
          <a:prstGeom prst="rect">
            <a:avLst/>
          </a:prstGeom>
          <a:solidFill>
            <a:srgbClr val="ffffff"/>
          </a:solidFill>
          <a:ln w="26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Which of the following are elements and which are compounds?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66" name="Picture 12" descr="compounds_molecules"/>
          <p:cNvPicPr/>
          <p:nvPr/>
        </p:nvPicPr>
        <p:blipFill>
          <a:blip r:embed="rId1"/>
          <a:stretch/>
        </p:blipFill>
        <p:spPr>
          <a:xfrm>
            <a:off x="604800" y="1600200"/>
            <a:ext cx="3743280" cy="2185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4" descr="pure_gold"/>
          <p:cNvPicPr/>
          <p:nvPr/>
        </p:nvPicPr>
        <p:blipFill>
          <a:blip r:embed="rId2"/>
          <a:stretch/>
        </p:blipFill>
        <p:spPr>
          <a:xfrm>
            <a:off x="5041800" y="1600200"/>
            <a:ext cx="3251160" cy="2185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6" descr="mercury_drops_large"/>
          <p:cNvPicPr/>
          <p:nvPr/>
        </p:nvPicPr>
        <p:blipFill>
          <a:blip r:embed="rId3"/>
          <a:stretch/>
        </p:blipFill>
        <p:spPr>
          <a:xfrm>
            <a:off x="1319040" y="3938760"/>
            <a:ext cx="2314800" cy="2187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Chem_KClO3"/>
          <p:cNvPicPr/>
          <p:nvPr/>
        </p:nvPicPr>
        <p:blipFill>
          <a:blip r:embed="rId4"/>
          <a:stretch/>
        </p:blipFill>
        <p:spPr>
          <a:xfrm>
            <a:off x="5388120" y="3938760"/>
            <a:ext cx="25588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x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Variable composition, ex. 5% or 10% salt solu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an be separated by physical mea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72" name="Picture 8" descr="mixture"/>
          <p:cNvPicPr/>
          <p:nvPr/>
        </p:nvPicPr>
        <p:blipFill>
          <a:blip r:embed="rId1"/>
          <a:stretch/>
        </p:blipFill>
        <p:spPr>
          <a:xfrm>
            <a:off x="5238720" y="2208240"/>
            <a:ext cx="285768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homemade-salad-dressing"/>
          <p:cNvPicPr/>
          <p:nvPr/>
        </p:nvPicPr>
        <p:blipFill>
          <a:blip r:embed="rId2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8:20:51Z</dcterms:created>
  <dc:creator>OCDSB</dc:creator>
  <dc:description/>
  <dc:language>en-US</dc:language>
  <cp:lastModifiedBy>Katie</cp:lastModifiedBy>
  <dcterms:modified xsi:type="dcterms:W3CDTF">2014-10-01T19:17:44Z</dcterms:modified>
  <cp:revision>46</cp:revision>
  <dc:subject/>
  <dc:title>Classification of Matter</dc:title>
</cp:coreProperties>
</file>